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972800" cy="10972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6EDF-14AA-47DB-9669-DB35BCDAE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360" y="2560320"/>
            <a:ext cx="987408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360" y="6342120"/>
            <a:ext cx="987408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7C83-4F69-41CC-BF7B-3FC4C4EA2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360" y="2560320"/>
            <a:ext cx="481824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08800" y="2560320"/>
            <a:ext cx="481824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360" y="6342120"/>
            <a:ext cx="481824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08800" y="6342120"/>
            <a:ext cx="481824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3470-EA24-4D33-9FC0-BBD712ACB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360" y="2560320"/>
            <a:ext cx="317916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88000" y="2560320"/>
            <a:ext cx="317916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26280" y="2560320"/>
            <a:ext cx="317916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360" y="6342120"/>
            <a:ext cx="317916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88000" y="6342120"/>
            <a:ext cx="317916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26280" y="6342120"/>
            <a:ext cx="317916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AC9D-8707-4A10-88F0-41A0C45B9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360" y="2560320"/>
            <a:ext cx="9874080" cy="724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000E-8C23-429E-BD8F-B92C6FDCF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360" y="2560320"/>
            <a:ext cx="9874080" cy="724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81E1-7D57-4A5A-9CEC-47D7D7012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360" y="2560320"/>
            <a:ext cx="4818240" cy="724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08800" y="2560320"/>
            <a:ext cx="4818240" cy="724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9496-13FD-4EE7-A4EC-6EB5B6459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0653-E1C8-4C37-BE64-D765DC0D8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360" y="441360"/>
            <a:ext cx="9874080" cy="84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9DF0-96AE-4075-BFA9-6A4A31018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360" y="2560320"/>
            <a:ext cx="481824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08800" y="2560320"/>
            <a:ext cx="4818240" cy="724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360" y="6342120"/>
            <a:ext cx="481824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B1F8-DBCE-43D1-9D19-69EA3FFB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360" y="2560320"/>
            <a:ext cx="4818240" cy="724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08800" y="2560320"/>
            <a:ext cx="481824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08800" y="6342120"/>
            <a:ext cx="481824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6E9D-DC52-4586-8E74-17812E9F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360" y="2560320"/>
            <a:ext cx="481824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08800" y="2560320"/>
            <a:ext cx="481824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360" y="6342120"/>
            <a:ext cx="987408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63AB-14BB-4FC3-BAB3-6FB15BF3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360" y="2560320"/>
            <a:ext cx="9874080" cy="724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2040" indent="-39204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-32688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26172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26208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4" marL="2351160" indent="-26028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5" marL="2351160" indent="-26028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6" marL="2351160" indent="-26028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9360" y="9991800"/>
            <a:ext cx="2558880" cy="761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lstStyle>
            <a:lvl1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49760" y="9991800"/>
            <a:ext cx="3473280" cy="761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lstStyle>
            <a:lvl1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64560" y="9991800"/>
            <a:ext cx="2558880" cy="761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lstStyle>
            <a:lvl1pPr indent="0" algn="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fld id="{707D2727-C2D3-433D-9DAA-44621B633361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7000" y="27000"/>
            <a:ext cx="10918800" cy="1091880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49360" y="2560320"/>
            <a:ext cx="9874080" cy="724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7000" y="27000"/>
            <a:ext cx="10918800" cy="1091880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49360" y="2560320"/>
            <a:ext cx="9874080" cy="724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7000" y="27000"/>
            <a:ext cx="10918800" cy="1091880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49360" y="2560320"/>
            <a:ext cx="9874080" cy="724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7000" y="27000"/>
            <a:ext cx="10918800" cy="1091880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360" y="2560320"/>
            <a:ext cx="9874080" cy="724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7000" y="27000"/>
            <a:ext cx="10918800" cy="1091880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49360" y="2560320"/>
            <a:ext cx="9874080" cy="724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7000" y="27000"/>
            <a:ext cx="10918800" cy="1091880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360" y="2560320"/>
            <a:ext cx="9874080" cy="724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7000" y="27000"/>
            <a:ext cx="10918800" cy="1091880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360" y="2560320"/>
            <a:ext cx="9874080" cy="724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7000" y="27000"/>
            <a:ext cx="10918800" cy="1091880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49360" y="2560320"/>
            <a:ext cx="9874080" cy="724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7000" y="27000"/>
            <a:ext cx="10918800" cy="1091880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01:18:24Z</dcterms:created>
  <dc:creator>Genome Sciences Centre</dc:creator>
  <dc:description/>
  <dc:language>en-US</dc:language>
  <cp:lastModifiedBy>Genome Sciences Centre</cp:lastModifiedBy>
  <dcterms:modified xsi:type="dcterms:W3CDTF">2009-03-31T01:22:28Z</dcterms:modified>
  <cp:revision>1</cp:revision>
  <dc:subject/>
  <dc:title>Slide 1</dc:title>
</cp:coreProperties>
</file>